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60700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3891-41BA-4155-8BC5-BA0D5CCA9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0600" y="430236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BE46-E51F-4EA7-BD58-01B35E2D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56276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EB43-0298-4AE2-9FF2-3AA575FA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0268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99476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1060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10268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99476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A153-B8D3-4EB1-9D16-A3D6CF983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197B-2381-40EC-AE02-1EBBB7AC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D002-10E1-4F51-B214-597B69AE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EAC1-616A-48E5-9CB4-DCC213F1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CFFE-B9D3-45B9-8700-A3722B0B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0600" y="382320"/>
            <a:ext cx="263844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FA8F-7042-434F-8E6E-8BCD1D66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6656-6ED8-4504-B2EF-A6F923F4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6276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0C34-6737-43FA-8658-AB2DFA9D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7335-0F31-4210-BB25-1C12EC69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32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38088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3" marL="53496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4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5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6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0960" y="6671880"/>
            <a:ext cx="68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4480" y="6671880"/>
            <a:ext cx="1031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61800" y="6671880"/>
            <a:ext cx="6872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B197FC-9740-429A-B44B-6DC8ED821F44}" type="slidenum">
              <a:rPr b="0" lang="es-ES" sz="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think-cell data - do not delete" descr=""/>
          <p:cNvPicPr/>
          <p:nvPr/>
        </p:nvPicPr>
        <p:blipFill>
          <a:blip r:embed="rId2"/>
          <a:stretch/>
        </p:blipFill>
        <p:spPr>
          <a:xfrm>
            <a:off x="0" y="1440"/>
            <a:ext cx="360" cy="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hink-cell data - do not delete" descr=""/>
          <p:cNvPicPr/>
          <p:nvPr/>
        </p:nvPicPr>
        <p:blipFill>
          <a:blip r:embed="rId1"/>
          <a:stretch/>
        </p:blipFill>
        <p:spPr>
          <a:xfrm>
            <a:off x="-1376856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0" y="6888240"/>
            <a:ext cx="3060720" cy="312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0" y="6905520"/>
            <a:ext cx="20638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600" spc="-1" strike="noStrike">
                <a:solidFill>
                  <a:srgbClr val="ffffff"/>
                </a:solidFill>
                <a:latin typeface="Gill Sans MT"/>
                <a:ea typeface="Arial"/>
              </a:rPr>
              <a:t>Consejería de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600" spc="-1" strike="noStrike">
                <a:solidFill>
                  <a:srgbClr val="ffffff"/>
                </a:solidFill>
                <a:latin typeface="Gill Sans MT"/>
                <a:ea typeface="Arial"/>
              </a:rPr>
              <a:t>XXX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635040" y="6616800"/>
            <a:ext cx="2425680" cy="2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1-27T08:08:51Z</dcterms:created>
  <dc:creator>Calviño Gonzalez, Maria</dc:creator>
  <dc:description/>
  <dc:language>en-US</dc:language>
  <cp:lastModifiedBy>Calviño Gonzalez, Maria</cp:lastModifiedBy>
  <dcterms:modified xsi:type="dcterms:W3CDTF">2025-06-11T12:09:31Z</dcterms:modified>
  <cp:revision>9</cp:revision>
  <dc:subject/>
  <dc:title>PowerPoint Presentation</dc:title>
</cp:coreProperties>
</file>